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BEE-7DE4-4A0F-8227-25DABC1B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B1B-B81F-419E-9EF0-9F016A6F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381-9455-416A-9517-4E779558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DF0-CF59-4B4D-8753-87A45BDF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72A0-B9C7-4B9E-AFF9-EAC8A9FE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1C0A-C1B8-4F91-B3C5-4F8EA499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6D32-9C22-4139-BAE8-119B7DA1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79CE-8813-442A-9F04-B67C51CD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CB4A-E967-4DAC-9FAF-C0BBF473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784B-E6AB-4241-A110-374888E8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7CCB-0EFE-4A78-907F-CB2D238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991-3B5D-4674-8270-9FC8A390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5E5E-A75A-40D3-AFFF-378A075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2EB5-2AEB-43F1-96F1-E12D6B8B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1F9C-9E84-4840-B406-4D20E9C7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2792-6304-40E1-A79F-5B93E73A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7284-7B07-4C64-88E8-1A3B299D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BD1-0837-4A2C-B316-C717FB1E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77E-A518-4F38-8871-C0DDA11E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5EC-7008-4515-984C-EA24AE22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946-5A56-442B-B21D-E5562DD5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ACA-E474-4406-A74E-6530C61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192-861E-45C9-9B95-50B2DBC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A58-6772-4DF1-8053-8D169D3B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FFE9-08DF-4246-8386-862E8FA4C237}" type="slidenum">
              <a:rPr b="0" lang="fr-FR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4BA5-7CA8-40CF-9F55-D18DDD7D4002}" type="slidenum">
              <a:rPr b="0" lang="fr-FR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876276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ecff"/>
                </a:solidFill>
                <a:latin typeface="Arial"/>
              </a:rPr>
              <a:t>Application de réseaux bayésiens à la détection de fumées polluan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761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David Gacqu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LAMIH, Université de Valenciennes et du Hainaut-Cambrési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84200" y="640080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1295640" cy="627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26920" y="4508640"/>
            <a:ext cx="7264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Equipe Raisonnement Automatique et Interfaces Homme Machine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Analyse des résult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581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éseau bayésien moins efficace que les K plus proches voisi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Améliorer le réseau bayésien naïf  par apprentissage de la struc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Utiliser la BNT Matlab de Murphy et le Structure Learning Package de P. Leray et son équip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0000" y="189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Apprentissage de la struc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8496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éseau naïf = variables supposées indépendantes entre elles lorsque la variable de classe est connu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Autoriser les arcs entre les nœuds pour lever cette restri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Difficulté : espace des graphes candidats trop complexe pour être entièrement parcouru      méthodes heuristiqu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27280" y="5373720"/>
            <a:ext cx="35892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Apprentissage de la struc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ree Augmented Naive (TAN) : </a:t>
            </a:r>
            <a:br>
              <a:rPr sz="3200"/>
            </a:b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le nœud classe est toujours la racine du réseau</a:t>
            </a:r>
            <a:br>
              <a:rPr sz="3200"/>
            </a:b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liens entre les nœuds périphériques respectant une structure d’arb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Greedy Search (recherche gloutonne)</a:t>
            </a:r>
            <a:br>
              <a:rPr sz="3200"/>
            </a:b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recherche d’une structure par ajouts/retraits successifs d’arc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692280"/>
            <a:ext cx="82198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537080" cy="1284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148360" y="2060640"/>
            <a:ext cx="381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Algorithme Greedy Searc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Erreur globale : 15,56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Satisfaction client : 91,79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4537080" cy="1284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148360" y="3645000"/>
            <a:ext cx="381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Tree Augmented Naive (TA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Erreur globale : 16,46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Satisfaction client : 89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189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Apprentissage de la struc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Récapitulatif des résult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2920" y="1916280"/>
          <a:ext cx="9001080" cy="3066840"/>
        </p:xfrm>
        <a:graphic>
          <a:graphicData uri="http://schemas.openxmlformats.org/drawingml/2006/table">
            <a:tbl>
              <a:tblPr/>
              <a:tblGrid>
                <a:gridCol w="4248000"/>
                <a:gridCol w="2160720"/>
                <a:gridCol w="259236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reur global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atisfaction clien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éseau bayésien naïf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12,97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6,1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ree Augmented Naive (TAN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,46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9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lgorithme Greedy Search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,56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91,79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 plus proches voisin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9,45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95,08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éseau naïf satisfaisant mais trop restrictif par rapport à d’autres métho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Apprentissage de structure complexe :</a:t>
            </a:r>
            <a:br>
              <a:rPr sz="3200"/>
            </a:b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méthodes basées sur des scores ne donnent pas toujours les résultats attendus en classification</a:t>
            </a:r>
            <a:br>
              <a:rPr sz="3200"/>
            </a:b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méthodes heuristiques peuvent s’arrêter sur des optimum loca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Perspectives de recherch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Autres algorithmes : </a:t>
            </a:r>
            <a:br>
              <a:rPr sz="3200"/>
            </a:b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arbre de poids maximal</a:t>
            </a:r>
            <a:br>
              <a:rPr sz="3200"/>
            </a:b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algorithme K2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Approche Multi Net et Similarity Networks :</a:t>
            </a:r>
            <a:br>
              <a:rPr sz="3200"/>
            </a:b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un réseau par valeur de la variable de classe</a:t>
            </a:r>
            <a:br>
              <a:rPr sz="3200"/>
            </a:b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dépendances entre variables différentes selon la clas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ccecff"/>
                </a:solidFill>
                <a:latin typeface="Arial"/>
              </a:rPr>
              <a:t>Merc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896000" cy="4581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404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Illustration du problème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Somma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ésentation du système DETE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Comparaison entre le réseau naïf et l’algorithme des K plus proches voisi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Analyse des résulta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Amélioration du réseau par apprentissage de la stru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Conclusion et perspectives de recherch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725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ecff"/>
                </a:solidFill>
                <a:latin typeface="Arial"/>
              </a:rPr>
              <a:t>Problème et solution actuel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7260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Enregistrement des émissions de fumées par camé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Calcul de signaux par traitement d’image (densité, surface …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Attribution d’un niveau de pollution [0..3] à l’aide d’un système de règ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59712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26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ecff"/>
                </a:solidFill>
                <a:latin typeface="Arial"/>
              </a:rPr>
              <a:t>L’objectif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Affecter automatiquement une classe à un panache de fumé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Approche supervisée : les classes et leur nombre sont déjà connus, l’objectif est d’affecter une classe à tout panache non encore classé, à partir d’une base d’apprentiss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Modélisation : chaque nœud correspond à un des signaux mesurés, un nœud supplémentaire est utilisé pour représenter la variable de clas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ecff"/>
                </a:solidFill>
                <a:latin typeface="Arial"/>
              </a:rPr>
              <a:t>Première approche : le réseau naïf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560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reseau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943080" cy="3943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2349360"/>
            <a:ext cx="457200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Nœuds périphériques = signau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Nœud central (variable de classe) =  niveau de pollu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Apprentissage = estimation des tables de probabilit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475920"/>
            <a:ext cx="8226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ecff"/>
                </a:solidFill>
                <a:latin typeface="Arial"/>
              </a:rPr>
              <a:t>Comparaison avec les k plus proches voisi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Principe de l’algorithme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7184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repere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047760" cy="2830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114800" y="2209680"/>
            <a:ext cx="4572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Exemple simple où trois variables sont utilisé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Deux nuages de points sont considérés, ceux de niveau 1 et 3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Le panache N non encore classé, plus proche des points de niveau 3, se verra attribuer le même niveau de gravité que ses plus proches voisin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Implémentations, tests et analy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5373360"/>
            <a:ext cx="784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Critères d’évaluation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Taux d’erreur global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Taux de satisfaction client (non détections et fausses alarmes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9800" y="1844640"/>
            <a:ext cx="446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Modélisation des prédictions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Matrice de confus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105080" cy="1163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700360" y="3139920"/>
            <a:ext cx="41050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7440" y="3284640"/>
            <a:ext cx="0" cy="115236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270828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Niveau attribué par l’algorithme utilis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500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Niveau attribué par l’exp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4724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Non déte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24360" y="4508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9308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Fausses alarm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77080" y="3645000"/>
            <a:ext cx="21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Résultats obten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535640" cy="1284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4537080" cy="1285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364000" y="1989000"/>
            <a:ext cx="360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Réseau bayésien naï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Erreur globale : 12,97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Satisfaction client : 86,1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35640" y="3933720"/>
            <a:ext cx="352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K plus proches voisi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Erreur globale : 9,45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aeaea"/>
                </a:solidFill>
                <a:latin typeface="Arial"/>
              </a:rPr>
              <a:t>Satisfaction client : 95,08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7:34:02Z</dcterms:created>
  <dc:creator>TNSI</dc:creator>
  <dc:description/>
  <dc:language>en-US</dc:language>
  <cp:lastModifiedBy>delcroix</cp:lastModifiedBy>
  <dcterms:modified xsi:type="dcterms:W3CDTF">2006-05-23T09:00:02Z</dcterms:modified>
  <cp:revision>187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